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3A8E-3D4F-4A3D-AE2D-A9F7523C6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09FB-E940-411C-99E0-63BD49669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7BF0-4EAC-471F-8DB8-5314184E6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9DFE-1BFF-42F1-A245-96BEC1EE3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5D2FD-59D1-41D6-9E0B-573F6272B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A9E63-D66E-48D8-BDDF-27D66BE6D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61697-345F-4BAC-B250-F18E573A8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13CF5-B1F2-494E-A2FF-588CDD8E1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6E0FA-235F-4D1A-B729-4DDCD8B1F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C07F0-1248-4A38-9863-0D57459C4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7AC73-2FBE-4654-9686-9F7052FDC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9580-CCDC-4F27-902A-35CC7C5E7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B03D4-14A5-4347-BCF9-B5C45B50C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9EC61-4734-47AD-A9C1-3D086C655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BED7D-0B1B-4132-9A08-C09D8419C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4257F-B1F6-41B4-9C37-E5DD92B6C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E5515-F345-4508-A9E2-DC0177535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64BC-C377-4E6F-8325-9A2BB8572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74FB-902E-4427-957E-C09E61CAA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94E4-E8BD-41D3-A7CA-9FB8B017D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F34C-344D-479B-A09F-F71BCBD22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FF21-B99F-4465-8E87-D2725C43A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0816-FEA0-48BE-8309-B2471D868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8C96-449F-4646-A983-EBB6D3FC6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05DC1-49FB-4869-B29E-A5CCE67E91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082C8-E6E0-48EB-A47A-8D9E7FD08D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pr-romania.ro/articole/concepte-de-baza/700-comunicarea-prin-vestimentatie-.html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LEVI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MATE FLORENTINA, IONESCU MARIAN,ISTRATE LAVIN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050920" y="692280"/>
            <a:ext cx="2952720" cy="1665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2195640" y="2637000"/>
            <a:ext cx="4038480" cy="58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costume-contemporane</a:t>
            </a:r>
            <a:endParaRPr b="0" lang="en-US" sz="32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1128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7e7ff"/>
                </a:solidFill>
                <a:latin typeface="Arial"/>
              </a:rPr>
              <a:t>NE AJUTA VESTIMENTATIA IN COMUNICARE</a:t>
            </a: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?</a:t>
            </a:r>
            <a:br>
              <a:rPr sz="4000"/>
            </a:b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VESTIMENTATIA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TE ASTAZI PRINCIPALA CALE DE MANIFESTARE A IDENTITATII,STABILESTE UN PLAN DE COMUNIC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INELE DAU SENS CONTEXTULUI VIZU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UL IN CARE ARATAM INFLUENTEAZA IMPRESIILE CELORLATI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2987640" y="4941720"/>
            <a:ext cx="3097080" cy="19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4d4d4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4d4d4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8" dur="1" fill="hold"/>
                                  <p:tgtEl>
                                    <p:spTgt spid="8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4d4d4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FUNCTIILE COSTUMULUI: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50752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 PROTECTIE-ne apara de factorii externi si de actiunea nefavorabila a mediulu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STETICA- scoate in evidenta partile frumoase ale corpulu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CIALA-diferentiaza purtatorul in functie de sex varsta,profesie ,religie,pozitie socia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4932360" y="3789360"/>
            <a:ext cx="1943280" cy="16095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6012000" y="2060640"/>
            <a:ext cx="158436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7e7ff"/>
                </a:solidFill>
                <a:latin typeface="Arial"/>
              </a:rPr>
              <a:t>CRITERII DE ACCEPTARE A PRODUSULUI VESTIMENTAR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CI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CONOM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ET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HN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 CALIT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7e7ff"/>
                </a:solidFill>
                <a:latin typeface="Arial"/>
              </a:rPr>
              <a:t>STILURI VESTIMENTARE CONTEMPORANE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SIC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are eleganta si rafina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IROU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prezinta sobrietate,caracter pract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OMANTIC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sensibilitate ,suavit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7380360" y="1557360"/>
            <a:ext cx="1224000" cy="17272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1763640" y="3645000"/>
            <a:ext cx="1584360" cy="15127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7451640" y="4797360"/>
            <a:ext cx="865440" cy="20606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898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898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898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898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250920" y="333360"/>
            <a:ext cx="854064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N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LCLORIC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costume traditiona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POR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simplitate, conf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7451640" y="476280"/>
            <a:ext cx="1511280" cy="18003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5595840" y="2997360"/>
            <a:ext cx="327528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Comunicarea prin vestimentaţie </a:t>
            </a:r>
            <a:br>
              <a:rPr sz="4000"/>
            </a:b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ro-RO" sz="2000" spc="-1" strike="noStrike">
                <a:solidFill>
                  <a:srgbClr val="ffffff"/>
                </a:solidFill>
                <a:latin typeface="Arial"/>
              </a:rPr>
              <a:t>Haina îl face pe om. Oamenii goi au influenţat puţin sau deloc societatea</a:t>
            </a: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 - Mark Twain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Unul dintre atributele pozitive ale vestimentaţiei este acela că poate transforma starea de spirit a unui individ. Îmbracă-te ca un om de afaceri şi ai mai multe şanse de a acţiona ca un om de afaceri. Ce facem cu depresia de dimineaţă? Femeile folosesc puterea garderobei personale pentru a-şi îmbunătăţi starea de spirit. Efectul de transformare este puternic şi eficient instantaneu; ceea ce este cel mai uimitor este faptul că atât de puţini bărbaţi îl utilizează.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BIBLIOGRAFIE: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95280" y="169992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ffcc00"/>
                </a:solidFill>
                <a:uFillTx/>
                <a:latin typeface="Arial"/>
                <a:hlinkClick r:id="rId2"/>
              </a:rPr>
              <a:t>http://www.pr-romania.ro/articole/concepte-de-baza/700-comunicarea-prin-vestimentatie-.ht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hnologii de confectionare a produselor-Gh.Ciont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stume si stiluri vestimentare-Auxiliar Curricular,M.E.C.T.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stimentatia-expresie a imaginii umane contemporane –Teza de doctorat-drd.C.Busturean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0T06:01:35Z</dcterms:created>
  <dc:creator>A</dc:creator>
  <dc:description/>
  <dc:language>en-US</dc:language>
  <cp:lastModifiedBy>A</cp:lastModifiedBy>
  <dcterms:modified xsi:type="dcterms:W3CDTF">2010-08-31T21:16:10Z</dcterms:modified>
  <cp:revision>5</cp:revision>
  <dc:subject/>
  <dc:title>COSTUME-CONTEMPORANE</dc:title>
</cp:coreProperties>
</file>